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8134B8-E2B6-45EC-96E1-373848E8C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72655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2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dfca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989b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 txBox="1"/>
          <p:nvPr/>
        </p:nvSpPr>
        <p:spPr>
          <a:xfrm>
            <a:off x="4265640" y="6477120"/>
            <a:ext cx="523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28DAC1EB-67DF-4BF8-8BC5-3B8EAEBF8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09960" y="61920"/>
            <a:ext cx="3114720" cy="476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2590920"/>
            <a:ext cx="7772400" cy="24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ECUS Session IN028</a:t>
            </a:r>
            <a:br>
              <a:rPr sz="3200"/>
            </a:br>
            <a:r>
              <a:rPr b="0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ednesday May 21, 1997</a:t>
            </a:r>
            <a:br>
              <a:rPr sz="3200"/>
            </a:br>
            <a:br>
              <a:rPr sz="18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CP/IP Programming: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89548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66960" y="4815000"/>
            <a:ext cx="35496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off Bry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yant@proces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921360" y="6346800"/>
            <a:ext cx="2152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©1997 Process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Arial"/>
                <a:ea typeface="Arial"/>
              </a:rPr>
              <a:t>IP - Internet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nectionless datagra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agmentation/Re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reliable”: Does not per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quenc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uplicate Avo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rror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 Performance and Low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Arial"/>
                <a:ea typeface="Arial"/>
              </a:rPr>
              <a:t>Internet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2280" y="18288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iquely identifies an interface within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ntax: a.b.c.d (x:y::z and ::a.b.c.d for IPv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2 bit number (128 bits for IPv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twork number (used for rou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ost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 “classfull” routing, host bits can used for sub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ress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:  1.h.h.h     through 127.h.h.h,         Network Mask: 255.0.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:  128.0.h.h through 191.255.h.h,     Network Mask: 255.255.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:  192.0.0.h through 223.255.255.h, Network Mask: 255.255.25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,E: 224.0.0.0 and higher (multicast and reser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Arial"/>
                <a:ea typeface="Arial"/>
              </a:rPr>
              <a:t>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676520" y="190512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362320" y="190512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8120" y="1905120"/>
            <a:ext cx="12952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343400" y="1905120"/>
            <a:ext cx="2666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Total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76520" y="2209680"/>
            <a:ext cx="2666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343400" y="220968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029200" y="2209680"/>
            <a:ext cx="19810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ragment 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514600"/>
            <a:ext cx="13716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TT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8120" y="2514600"/>
            <a:ext cx="12952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343400" y="2514600"/>
            <a:ext cx="2666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Header Check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676520" y="2819520"/>
            <a:ext cx="5334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Source Internet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676520" y="3124080"/>
            <a:ext cx="5334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Destination Internet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676520" y="3429000"/>
            <a:ext cx="40384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Option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715000" y="3429000"/>
            <a:ext cx="12952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Pad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676520" y="3733920"/>
            <a:ext cx="5334120" cy="304920"/>
          </a:xfrm>
          <a:prstGeom prst="rect">
            <a:avLst/>
          </a:prstGeom>
          <a:solidFill>
            <a:srgbClr val="00dfca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Data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85800" y="162396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271600" y="162396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957400" y="162396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176720" y="162396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861080" y="162396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622840" y="162396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689880" y="162396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19120" y="4213080"/>
            <a:ext cx="8194680" cy="2006640"/>
            <a:chOff x="519120" y="4213080"/>
            <a:chExt cx="8194680" cy="2006640"/>
          </a:xfrm>
        </p:grpSpPr>
        <p:sp>
          <p:nvSpPr>
            <p:cNvPr id="292" name=""/>
            <p:cNvSpPr txBox="1"/>
            <p:nvPr/>
          </p:nvSpPr>
          <p:spPr>
            <a:xfrm>
              <a:off x="519120" y="4213080"/>
              <a:ext cx="3983040" cy="200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Field</a:t>
              </a: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	</a:t>
              </a: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Purp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Ver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P version num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Le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Length of IP header (4 octet unit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ype of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.  Length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Length of entire datagram (octet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dent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P datagram ID (for frag/reassembly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ag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n’t/More frag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rag Off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ragment Offs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4937040" y="4213080"/>
              <a:ext cx="3776760" cy="200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Field</a:t>
              </a: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	</a:t>
              </a: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Purp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T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me To Live - Max # of ho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toco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Higher level protocol (1=ICMP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6=TCP, 17=UD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hecksu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hecksum for the IP h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ource I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iginator’s Internet 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t I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nal Destination Internet 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ption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ource route, timestamp, et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Arial"/>
                <a:ea typeface="Arial"/>
              </a:rPr>
              <a:t>Network-Byte 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480" y="1828800"/>
            <a:ext cx="4281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  <a:tabLst>
                <a:tab algn="l" pos="1541520"/>
                <a:tab algn="l" pos="33195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g-Endian &amp; Little-En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4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  <a:tabLst>
                <a:tab algn="l" pos="1143000"/>
                <a:tab algn="l" pos="2921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twork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4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  <a:tabLst>
                <a:tab algn="l" pos="1143000"/>
                <a:tab algn="l" pos="2921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AX, Alpha, Intel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  <a:tabLst>
                <a:tab algn="l" pos="1541520"/>
                <a:tab algn="l" pos="33195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er Conver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4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  <a:tabLst>
                <a:tab algn="l" pos="1143000"/>
                <a:tab algn="l" pos="2921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ost-to-Net (sh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4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  <a:tabLst>
                <a:tab algn="l" pos="1143000"/>
                <a:tab algn="l" pos="2921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ton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ost-to-Net (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4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  <a:tabLst>
                <a:tab algn="l" pos="1143000"/>
                <a:tab algn="l" pos="2921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toh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t-to-Host (sh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4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  <a:tabLst>
                <a:tab algn="l" pos="1143000"/>
                <a:tab algn="l" pos="2921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toh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t-to-Host (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  <a:tabLst>
                <a:tab algn="l" pos="1541520"/>
                <a:tab algn="l" pos="33195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  <a:tabLst>
                <a:tab algn="l" pos="1541520"/>
                <a:tab algn="l" pos="33195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CP &amp; UDP 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181480" y="2133720"/>
            <a:ext cx="3900600" cy="2286000"/>
            <a:chOff x="5181480" y="2133720"/>
            <a:chExt cx="3900600" cy="2286000"/>
          </a:xfrm>
        </p:grpSpPr>
        <p:sp>
          <p:nvSpPr>
            <p:cNvPr id="299" name=""/>
            <p:cNvSpPr txBox="1"/>
            <p:nvPr/>
          </p:nvSpPr>
          <p:spPr>
            <a:xfrm>
              <a:off x="5181480" y="2133720"/>
              <a:ext cx="1295280" cy="76212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0000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6477120" y="2133720"/>
              <a:ext cx="1295280" cy="76212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772655"/>
                  </a:solidFill>
                  <a:latin typeface="Arial"/>
                  <a:ea typeface="Arial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772655"/>
                  </a:solidFill>
                  <a:latin typeface="Arial"/>
                  <a:ea typeface="Arial"/>
                </a:rPr>
                <a:t>000000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5181480" y="3657600"/>
              <a:ext cx="1295280" cy="76212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772655"/>
                  </a:solidFill>
                  <a:latin typeface="Arial"/>
                  <a:ea typeface="Arial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772655"/>
                  </a:solidFill>
                  <a:latin typeface="Arial"/>
                  <a:ea typeface="Arial"/>
                </a:rPr>
                <a:t>000000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772655"/>
                  </a:solidFill>
                  <a:latin typeface="Arial"/>
                  <a:ea typeface="Arial"/>
                </a:rPr>
                <a:t>Byte #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6477120" y="3657600"/>
              <a:ext cx="1295280" cy="76212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00000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yte #N+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81480" y="2895480"/>
              <a:ext cx="2590920" cy="76212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7908840" y="3894120"/>
              <a:ext cx="10540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ig-Endi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yte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7908840" y="2448000"/>
              <a:ext cx="11732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ttle-Endi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yte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6172200" y="2819520"/>
              <a:ext cx="533520" cy="914400"/>
            </a:xfrm>
            <a:prstGeom prst="line">
              <a:avLst/>
            </a:prstGeom>
            <a:ln w="12600">
              <a:solidFill>
                <a:srgbClr val="772655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48520" y="2819520"/>
              <a:ext cx="457200" cy="914400"/>
            </a:xfrm>
            <a:prstGeom prst="line">
              <a:avLst/>
            </a:prstGeom>
            <a:ln w="12600">
              <a:solidFill>
                <a:srgbClr val="772655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Arial"/>
                <a:ea typeface="Arial"/>
              </a:rPr>
              <a:t>The TCP/IP Protocol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674720" y="4141800"/>
            <a:ext cx="5926320" cy="668520"/>
            <a:chOff x="1674720" y="4141800"/>
            <a:chExt cx="5926320" cy="668520"/>
          </a:xfrm>
        </p:grpSpPr>
        <p:sp>
          <p:nvSpPr>
            <p:cNvPr id="312" name=""/>
            <p:cNvSpPr txBox="1"/>
            <p:nvPr/>
          </p:nvSpPr>
          <p:spPr>
            <a:xfrm>
              <a:off x="1879560" y="432756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Device 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1778040" y="423396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Device 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1674720" y="414180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Protoco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 txBox="1"/>
          <p:nvPr/>
        </p:nvSpPr>
        <p:spPr>
          <a:xfrm>
            <a:off x="1641600" y="2754360"/>
            <a:ext cx="2394000" cy="48276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48120" y="5937120"/>
            <a:ext cx="457200" cy="31104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103720" y="2754360"/>
            <a:ext cx="2394000" cy="482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674720" y="3456000"/>
            <a:ext cx="5872320" cy="48276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IP (IC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74720" y="5091120"/>
            <a:ext cx="5926320" cy="669960"/>
            <a:chOff x="1674720" y="5091120"/>
            <a:chExt cx="5926320" cy="669960"/>
          </a:xfrm>
        </p:grpSpPr>
        <p:sp>
          <p:nvSpPr>
            <p:cNvPr id="320" name=""/>
            <p:cNvSpPr txBox="1"/>
            <p:nvPr/>
          </p:nvSpPr>
          <p:spPr>
            <a:xfrm>
              <a:off x="1879560" y="527832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Device 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1778040" y="518472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Device 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1674720" y="509112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Controll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838080" y="6093000"/>
            <a:ext cx="7315200" cy="2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902120" y="5881680"/>
            <a:ext cx="289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thernet or other physical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79960" y="5781600"/>
            <a:ext cx="0" cy="155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79960" y="4846680"/>
            <a:ext cx="0" cy="235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078440" y="3913200"/>
            <a:ext cx="0" cy="2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347920" y="32130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94600" y="32130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909800" y="2133720"/>
            <a:ext cx="54612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54240" y="2133720"/>
            <a:ext cx="70344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Tel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483080" y="2133720"/>
            <a:ext cx="56520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299200" y="2133720"/>
            <a:ext cx="56520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N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17600" y="2433600"/>
            <a:ext cx="0" cy="31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89400" y="2433600"/>
            <a:ext cx="0" cy="31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713120" y="2438280"/>
            <a:ext cx="11160" cy="1082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62720" y="2438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213600" y="2133720"/>
            <a:ext cx="106992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Trace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705720" y="2438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Arial"/>
                <a:ea typeface="Arial"/>
              </a:rPr>
              <a:t>UDP - User Datagram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nectionless unreliable datagra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s port concept to identify pee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grams may be lost, out of order, or du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y low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d by applications such as TFTP, DNS,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st for simple transaction oriente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vantages over using IP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n address individual applications via well-known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ecksums (pseudo IP header, UDP header,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Arial"/>
                <a:ea typeface="Arial"/>
              </a:rPr>
              <a:t>UD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419720" y="2286000"/>
            <a:ext cx="2666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Destination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752480" y="2286000"/>
            <a:ext cx="2666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Source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752480" y="2895480"/>
            <a:ext cx="5334120" cy="304920"/>
          </a:xfrm>
          <a:prstGeom prst="rect">
            <a:avLst/>
          </a:prstGeom>
          <a:solidFill>
            <a:srgbClr val="00dfca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Application 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662120" y="20048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253040" y="20048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765840" y="20048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419720" y="2590920"/>
            <a:ext cx="2666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Check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752480" y="2590920"/>
            <a:ext cx="2666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281240" y="3832200"/>
            <a:ext cx="637236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ield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urp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urce Por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6-bit port number identifying originating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tination Por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6-bit port number identifying destination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Leng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Length of UDP datagram (UDP header +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ecksu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ecksum of IP pseudo header, UDP header,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Arial"/>
                <a:ea typeface="Arial"/>
              </a:rPr>
              <a:t>The TCP/IP Protocol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674720" y="4141800"/>
            <a:ext cx="5926320" cy="668520"/>
            <a:chOff x="1674720" y="4141800"/>
            <a:chExt cx="5926320" cy="668520"/>
          </a:xfrm>
        </p:grpSpPr>
        <p:sp>
          <p:nvSpPr>
            <p:cNvPr id="360" name=""/>
            <p:cNvSpPr txBox="1"/>
            <p:nvPr/>
          </p:nvSpPr>
          <p:spPr>
            <a:xfrm>
              <a:off x="1879560" y="432756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Device 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1778040" y="423396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Device 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1674720" y="414180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Protoco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 txBox="1"/>
          <p:nvPr/>
        </p:nvSpPr>
        <p:spPr>
          <a:xfrm>
            <a:off x="1641600" y="2754360"/>
            <a:ext cx="2394000" cy="482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48120" y="5937120"/>
            <a:ext cx="457200" cy="31104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103720" y="2754360"/>
            <a:ext cx="2394000" cy="48276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674720" y="3456000"/>
            <a:ext cx="5872320" cy="48276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IP (IC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674720" y="5091120"/>
            <a:ext cx="5926320" cy="669960"/>
            <a:chOff x="1674720" y="5091120"/>
            <a:chExt cx="5926320" cy="669960"/>
          </a:xfrm>
        </p:grpSpPr>
        <p:sp>
          <p:nvSpPr>
            <p:cNvPr id="368" name=""/>
            <p:cNvSpPr txBox="1"/>
            <p:nvPr/>
          </p:nvSpPr>
          <p:spPr>
            <a:xfrm>
              <a:off x="1879560" y="527832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Device 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1778040" y="518472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Device 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1674720" y="509112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Controll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838080" y="6093000"/>
            <a:ext cx="7315200" cy="2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902120" y="5881680"/>
            <a:ext cx="289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thernet or other physical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179960" y="5781600"/>
            <a:ext cx="0" cy="155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179960" y="4846680"/>
            <a:ext cx="0" cy="235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078440" y="3913200"/>
            <a:ext cx="0" cy="2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347920" y="32130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94600" y="32130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909800" y="2133720"/>
            <a:ext cx="54612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54240" y="2133720"/>
            <a:ext cx="70344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Tel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483080" y="2133720"/>
            <a:ext cx="56520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299200" y="2133720"/>
            <a:ext cx="56520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N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17600" y="2433600"/>
            <a:ext cx="0" cy="31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389400" y="2433600"/>
            <a:ext cx="0" cy="31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713120" y="2438280"/>
            <a:ext cx="11160" cy="1082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62720" y="2438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213600" y="2133720"/>
            <a:ext cx="106992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Trace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2438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dfca"/>
                </a:solidFill>
                <a:latin typeface="Arial"/>
                <a:ea typeface="Arial"/>
              </a:rPr>
              <a:t>TCP - Transmission Control Protoc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0948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d-to-end reliable, connection-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yte-stream protocol, not message 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 delivered in order with no du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low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ll du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ports to identify individual connections an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ers contacted at well-known po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ll-known port numbers assigned by IANA (Internet Assigned Numbers Autho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dfca"/>
                </a:solidFill>
                <a:latin typeface="Arial"/>
                <a:ea typeface="Arial"/>
              </a:rPr>
              <a:t>TCP - Transmission Control Protoc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088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 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ndles damaged, lost, duplicated, and out of sequen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s positive acknowled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me-outs indicate negative acknowle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ch data octet (and SYN and FIN control bits) are assigned a sequenc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69960" y="2006640"/>
            <a:ext cx="592596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lides available via anonymous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st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tp.proc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rectory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pub.decus.spring_9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lid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028_prog_intro.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028_prog_intro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CP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o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NOT do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19040" y="2057400"/>
            <a:ext cx="8248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CP is a reliable BYTE STREAM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one-to-one correspondence between send operations and receive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umber of send operations may NOT be equal to the number of receiv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receive operation may receive fewer bytes than was sent in a send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receive operation may receive data from several sends (more than one message may be recei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CP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o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NOT do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19040" y="2057400"/>
            <a:ext cx="8248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 application must implement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ent/Server need to agree on and implement a message protoc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ssages separated by &lt;CR&gt;&lt;LF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ssages preceded by byte count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ssages of fixed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oose TCP for applications which require reliable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Arial"/>
                <a:ea typeface="Arial"/>
              </a:rPr>
              <a:t>TCP Connecti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er prepares to receive connections (passive o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reates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NDs to well known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lls TCP layer to LISTEN for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CEPTs incoming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ent initiates connection (active o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reates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NECTs to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 is transmitted and received by client/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ent and Server CLOSE/SHUTDOWN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Arial"/>
                <a:ea typeface="Arial"/>
              </a:rPr>
              <a:t>TCP Connection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657600" y="1905120"/>
            <a:ext cx="10666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86000" y="1828800"/>
            <a:ext cx="1371600" cy="30492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00000" y="1700280"/>
            <a:ext cx="1477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BEGIN/socke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657600" y="2819520"/>
            <a:ext cx="10666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LI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86200" y="2286000"/>
            <a:ext cx="0" cy="60948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890720" y="2233440"/>
            <a:ext cx="2041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Server Passive 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bind(),listen(),accep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419720" y="2362320"/>
            <a:ext cx="0" cy="45720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403880" y="2462040"/>
            <a:ext cx="78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Clos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629400" y="3429000"/>
            <a:ext cx="10666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SYN 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724280" y="3048120"/>
            <a:ext cx="1828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861080" y="2843280"/>
            <a:ext cx="1152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ctive 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nd S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724280" y="2133720"/>
            <a:ext cx="24386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2133720"/>
            <a:ext cx="0" cy="129528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784760" y="1928880"/>
            <a:ext cx="261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Client Active Open connec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send S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553080" y="3048120"/>
            <a:ext cx="30492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3429000"/>
            <a:ext cx="10666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SYN RCV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1981080" y="3657600"/>
            <a:ext cx="47246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937040" y="3451320"/>
            <a:ext cx="1400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cv S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nd SYN,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1905120" y="3048120"/>
            <a:ext cx="175248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1600200" y="3048120"/>
            <a:ext cx="304920" cy="38088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043000" y="2843280"/>
            <a:ext cx="1449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rcv S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send SYN,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905120" y="3200400"/>
            <a:ext cx="190476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957400" y="3298680"/>
            <a:ext cx="82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cv 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429000" y="4114800"/>
            <a:ext cx="1523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ESTAB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676520" y="3962520"/>
            <a:ext cx="175248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1676520" y="3886200"/>
            <a:ext cx="0" cy="763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890720" y="3755880"/>
            <a:ext cx="1517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rcv ACK of S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62920" y="3886200"/>
            <a:ext cx="0" cy="4572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4952880" y="4343400"/>
            <a:ext cx="2210040" cy="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5394240" y="4137120"/>
            <a:ext cx="1300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rcv SYN,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send 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914400" y="4648320"/>
            <a:ext cx="10666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IN WAIT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914400" y="5562720"/>
            <a:ext cx="10666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IN WAIT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553080" y="4724280"/>
            <a:ext cx="12193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CLOSE_WA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581280" y="5105520"/>
            <a:ext cx="10666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CLO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657600" y="5943600"/>
            <a:ext cx="10666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TIME_WA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629400" y="5562720"/>
            <a:ext cx="10666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LAST_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388620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42800" y="3984480"/>
            <a:ext cx="90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os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nd 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47920" y="5105520"/>
            <a:ext cx="0" cy="45720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71400" y="5127480"/>
            <a:ext cx="885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rcv 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447920" y="6172200"/>
            <a:ext cx="2209680" cy="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447920" y="6019920"/>
            <a:ext cx="0" cy="1522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043000" y="5965920"/>
            <a:ext cx="1033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rcv 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send 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6172200"/>
            <a:ext cx="3657600" cy="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8381880" y="1752480"/>
            <a:ext cx="0" cy="441972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800600" y="1752480"/>
            <a:ext cx="358128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495680" y="1752480"/>
            <a:ext cx="304920" cy="22860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5013360" y="5965920"/>
            <a:ext cx="1285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timer ~ 1 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752480" y="5029200"/>
            <a:ext cx="1981440" cy="99072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043000" y="5203800"/>
            <a:ext cx="12207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rcv FIN,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send 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81080" y="487692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48769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424240" y="4594320"/>
            <a:ext cx="984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cv 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nd 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1911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175280" y="558468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cv 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676520" y="4343400"/>
            <a:ext cx="175248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76520" y="4343400"/>
            <a:ext cx="0" cy="30492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662120" y="413712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Close() send 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5029200" y="495288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4495680" y="4572000"/>
            <a:ext cx="533520" cy="380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089680" y="4746600"/>
            <a:ext cx="1033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rcv 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send 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162920" y="5181480"/>
            <a:ext cx="0" cy="38124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232680" y="5127480"/>
            <a:ext cx="9349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Clos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send 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96080" y="5791320"/>
            <a:ext cx="685800" cy="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7604280" y="5508720"/>
            <a:ext cx="885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rcv 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696080" y="36576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7604280" y="3375000"/>
            <a:ext cx="757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os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29000" y="3962520"/>
            <a:ext cx="228600" cy="22860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Arial"/>
                <a:ea typeface="Arial"/>
              </a:rPr>
              <a:t>TCP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343400" y="1905120"/>
            <a:ext cx="2666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Destination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676520" y="2514600"/>
            <a:ext cx="5334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Acknowledgment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676520" y="3429000"/>
            <a:ext cx="40384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Option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5715000" y="3429000"/>
            <a:ext cx="12952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Pad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676520" y="3733920"/>
            <a:ext cx="5334120" cy="304920"/>
          </a:xfrm>
          <a:prstGeom prst="rect">
            <a:avLst/>
          </a:prstGeom>
          <a:solidFill>
            <a:srgbClr val="00dfca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Data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585800" y="162396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2271600" y="162396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33720" y="162396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176720" y="162396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861080" y="162396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622840" y="162396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689880" y="162396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676520" y="1905120"/>
            <a:ext cx="2666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Source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343400" y="2819520"/>
            <a:ext cx="2666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676520" y="281952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676520" y="2209680"/>
            <a:ext cx="5334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Sequenc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362320" y="281952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276720" y="2819520"/>
            <a:ext cx="10666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343400" y="3124080"/>
            <a:ext cx="2666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Urgent Po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676520" y="3124080"/>
            <a:ext cx="2666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Check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976320" y="4060800"/>
            <a:ext cx="6845400" cy="24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ield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urp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urce Por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dentifies originating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tination Por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dentifies destination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quence Numb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quence number of first octet in the seg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cknowledgment #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quence number of the next expected octet (if ACK flag s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L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Length of TCP header in 4 octet 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lag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CP flags: SYN, FIN, RST, PSH, ACK, U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ind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umber of octets from ACK that sender will ac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ecksu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ecksum of IP pseudo-header + TCP header +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Urgent Point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ointer to end of “urgent dat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on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pecial TCP options such as MSS and Window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Arial"/>
                <a:ea typeface="Arial"/>
              </a:rPr>
              <a:t>Why “Client/Server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0948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ndezvou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n you imagine the difficulty of two programs starting simultaneously on two different hosts so they can “talk together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 several millisecond-long execution times, synchronizing each one at their (respective) correct execution sequence is a tricky job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ient/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e side starts and waits for the other side to contact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rver” wait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lient” initiat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Arial"/>
                <a:ea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0" y="175104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rnetworking with TCP/IP, Volume III:  Client-Server Programming and Applications (BSD Socket Version), Douglas E. Comer and David L. Stevens, Prentice-Hall, Inc. 1993. ISBN #0-13-47422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rnetworking with TCP/IP, Volume I, Principles, Protocols, and Architecture, @3rd ed., Douglas E. Comer, Prentice-Hall, Inc. 1995. ISBN #0-13-46850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69960" y="2006640"/>
            <a:ext cx="592596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lides available via anonymous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st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tp.proc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rectory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pub.decus.spring_9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lid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028_prog_intro.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028_prog_intro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Arial"/>
                <a:ea typeface="Arial"/>
              </a:rPr>
              <a:t>The OSI Network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52360" y="2048040"/>
            <a:ext cx="8686800" cy="4038480"/>
            <a:chOff x="252360" y="2048040"/>
            <a:chExt cx="8686800" cy="4038480"/>
          </a:xfrm>
        </p:grpSpPr>
        <p:sp>
          <p:nvSpPr>
            <p:cNvPr id="63" name=""/>
            <p:cNvSpPr/>
            <p:nvPr/>
          </p:nvSpPr>
          <p:spPr>
            <a:xfrm>
              <a:off x="252360" y="5477040"/>
              <a:ext cx="2133720" cy="609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2360" y="4943520"/>
              <a:ext cx="2133720" cy="533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2360" y="4410000"/>
              <a:ext cx="2133720" cy="533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2360" y="3876840"/>
              <a:ext cx="2133720" cy="533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2360" y="3343320"/>
              <a:ext cx="2133720" cy="533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2360" y="2809800"/>
              <a:ext cx="2133720" cy="533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2360" y="2048040"/>
              <a:ext cx="21337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739800" y="5694480"/>
              <a:ext cx="9460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663480" y="5157720"/>
              <a:ext cx="106056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a L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739800" y="4624560"/>
              <a:ext cx="9334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663480" y="4091040"/>
              <a:ext cx="107316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739800" y="3557520"/>
              <a:ext cx="90792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587520" y="3025800"/>
              <a:ext cx="137952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en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663480" y="2263680"/>
              <a:ext cx="121284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66960" y="2048040"/>
              <a:ext cx="6172200" cy="4038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66960" y="5477040"/>
              <a:ext cx="6172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66960" y="4943520"/>
              <a:ext cx="6172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66960" y="4410000"/>
              <a:ext cx="6172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66960" y="3876840"/>
              <a:ext cx="6172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66960" y="3343320"/>
              <a:ext cx="6172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66960" y="2809800"/>
              <a:ext cx="6172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703680" y="5614920"/>
              <a:ext cx="422424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nsmission of binary data of a med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2793960" y="5081760"/>
              <a:ext cx="610560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nsfer of units of information, framing, and error che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2952720" y="4548240"/>
              <a:ext cx="585144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livery of packets of information, which includes rou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2984400" y="4014720"/>
              <a:ext cx="568656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vision for end-to-end reliable and unreliable delive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3537000" y="3481560"/>
              <a:ext cx="455616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ablishment and maintenance of sess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4243320" y="2949480"/>
              <a:ext cx="322092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a formatting and encry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3029040" y="2187720"/>
              <a:ext cx="557208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work applications such as file transfer and term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m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Arial"/>
                <a:ea typeface="Arial"/>
              </a:rPr>
              <a:t>The TCP/IP Protocol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674720" y="4141800"/>
            <a:ext cx="5926320" cy="668520"/>
            <a:chOff x="1674720" y="4141800"/>
            <a:chExt cx="5926320" cy="668520"/>
          </a:xfrm>
        </p:grpSpPr>
        <p:sp>
          <p:nvSpPr>
            <p:cNvPr id="95" name=""/>
            <p:cNvSpPr txBox="1"/>
            <p:nvPr/>
          </p:nvSpPr>
          <p:spPr>
            <a:xfrm>
              <a:off x="1879560" y="432756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Device 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1778040" y="423396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Device 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1674720" y="414180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Protocols/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948120" y="5937120"/>
            <a:ext cx="457200" cy="31104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41600" y="2754360"/>
            <a:ext cx="2394000" cy="482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103720" y="2754360"/>
            <a:ext cx="2394000" cy="482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74720" y="3456000"/>
            <a:ext cx="5872320" cy="482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IP (IC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74720" y="5091120"/>
            <a:ext cx="5926320" cy="669960"/>
            <a:chOff x="1674720" y="5091120"/>
            <a:chExt cx="5926320" cy="669960"/>
          </a:xfrm>
        </p:grpSpPr>
        <p:sp>
          <p:nvSpPr>
            <p:cNvPr id="103" name=""/>
            <p:cNvSpPr txBox="1"/>
            <p:nvPr/>
          </p:nvSpPr>
          <p:spPr>
            <a:xfrm>
              <a:off x="1879560" y="527832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Device 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1778040" y="518472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Device 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1674720" y="509112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Controll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838080" y="6093000"/>
            <a:ext cx="7315200" cy="2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02120" y="5881680"/>
            <a:ext cx="289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thernet or other physical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79960" y="5781600"/>
            <a:ext cx="0" cy="155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79960" y="4846680"/>
            <a:ext cx="0" cy="235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078440" y="3913200"/>
            <a:ext cx="0" cy="2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47920" y="32130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94600" y="32130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909800" y="2133720"/>
            <a:ext cx="54612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54240" y="2133720"/>
            <a:ext cx="70344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Tel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483080" y="2133720"/>
            <a:ext cx="56520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299200" y="2133720"/>
            <a:ext cx="56520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N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17600" y="2433600"/>
            <a:ext cx="0" cy="31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89400" y="2433600"/>
            <a:ext cx="0" cy="31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24382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2438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13600" y="2133720"/>
            <a:ext cx="106992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Trace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2438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Arial"/>
                <a:ea typeface="Arial"/>
              </a:rPr>
              <a:t>TCP/IP Network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2360" y="5477040"/>
            <a:ext cx="2133720" cy="6094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2360" y="4943520"/>
            <a:ext cx="2133720" cy="533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2360" y="4410000"/>
            <a:ext cx="2133720" cy="533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2360" y="3876840"/>
            <a:ext cx="2133720" cy="533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2360" y="3343320"/>
            <a:ext cx="2133720" cy="533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2360" y="2809800"/>
            <a:ext cx="2133720" cy="533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2360" y="2048040"/>
            <a:ext cx="213372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39800" y="5694480"/>
            <a:ext cx="946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63480" y="515772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39800" y="462456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63480" y="409104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39800" y="355752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87520" y="3025800"/>
            <a:ext cx="13795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63480" y="2263680"/>
            <a:ext cx="1212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66960" y="2048040"/>
            <a:ext cx="6172200" cy="40384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66960" y="5477040"/>
            <a:ext cx="6172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66960" y="4943520"/>
            <a:ext cx="6172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66960" y="4410000"/>
            <a:ext cx="6172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66960" y="3876840"/>
            <a:ext cx="6172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5564160"/>
            <a:ext cx="586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ransmission of binary data of a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793960" y="5030640"/>
            <a:ext cx="6045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952720" y="4497480"/>
            <a:ext cx="5886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984400" y="3963960"/>
            <a:ext cx="5778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TCP and 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29040" y="2187720"/>
            <a:ext cx="557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twork applications such as file transfer and 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Arial"/>
                <a:ea typeface="Arial"/>
              </a:rPr>
              <a:t>Protocol Lay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880" y="182880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ach layer adds information as data is passed down to lower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ded information almost always added as hea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ach layer removes its information as data is passed up to higher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020000" y="1801800"/>
            <a:ext cx="1581120" cy="406440"/>
          </a:xfrm>
          <a:prstGeom prst="rect">
            <a:avLst/>
          </a:prstGeom>
          <a:solidFill>
            <a:srgbClr val="ffffff"/>
          </a:solidFill>
          <a:ln w="38160">
            <a:solidFill>
              <a:srgbClr val="51dc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020000" y="2335320"/>
            <a:ext cx="1581120" cy="406440"/>
          </a:xfrm>
          <a:prstGeom prst="rect">
            <a:avLst/>
          </a:prstGeom>
          <a:solidFill>
            <a:srgbClr val="ffffff"/>
          </a:solidFill>
          <a:ln w="38160">
            <a:solidFill>
              <a:srgbClr val="51dc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020000" y="2868480"/>
            <a:ext cx="1581120" cy="406440"/>
          </a:xfrm>
          <a:prstGeom prst="rect">
            <a:avLst/>
          </a:prstGeom>
          <a:solidFill>
            <a:srgbClr val="ffffff"/>
          </a:solidFill>
          <a:ln w="38160">
            <a:solidFill>
              <a:srgbClr val="51dc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020000" y="3400560"/>
            <a:ext cx="1581120" cy="406440"/>
          </a:xfrm>
          <a:prstGeom prst="rect">
            <a:avLst/>
          </a:prstGeom>
          <a:solidFill>
            <a:srgbClr val="ffffff"/>
          </a:solidFill>
          <a:ln w="38160">
            <a:solidFill>
              <a:srgbClr val="51dc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020000" y="4314960"/>
            <a:ext cx="1581120" cy="406440"/>
          </a:xfrm>
          <a:prstGeom prst="rect">
            <a:avLst/>
          </a:prstGeom>
          <a:solidFill>
            <a:srgbClr val="ffffff"/>
          </a:solidFill>
          <a:ln w="38160">
            <a:solidFill>
              <a:srgbClr val="51dc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020000" y="4848120"/>
            <a:ext cx="1581120" cy="406440"/>
          </a:xfrm>
          <a:prstGeom prst="rect">
            <a:avLst/>
          </a:prstGeom>
          <a:solidFill>
            <a:srgbClr val="ffffff"/>
          </a:solidFill>
          <a:ln w="38160">
            <a:solidFill>
              <a:srgbClr val="51dc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020000" y="5381640"/>
            <a:ext cx="1581120" cy="406440"/>
          </a:xfrm>
          <a:prstGeom prst="rect">
            <a:avLst/>
          </a:prstGeom>
          <a:solidFill>
            <a:srgbClr val="ffffff"/>
          </a:solidFill>
          <a:ln w="38160">
            <a:solidFill>
              <a:srgbClr val="51dc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020000" y="5915160"/>
            <a:ext cx="1581120" cy="406440"/>
          </a:xfrm>
          <a:prstGeom prst="rect">
            <a:avLst/>
          </a:prstGeom>
          <a:solidFill>
            <a:srgbClr val="ffffff"/>
          </a:solidFill>
          <a:ln w="38160">
            <a:solidFill>
              <a:srgbClr val="51dc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410160" y="2335320"/>
            <a:ext cx="641520" cy="406440"/>
          </a:xfrm>
          <a:prstGeom prst="rect">
            <a:avLst/>
          </a:prstGeom>
          <a:solidFill>
            <a:srgbClr val="ffffff"/>
          </a:solidFill>
          <a:ln w="38160">
            <a:solidFill>
              <a:srgbClr val="51dc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T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952960" y="2868480"/>
            <a:ext cx="1098720" cy="406440"/>
            <a:chOff x="5952960" y="2868480"/>
            <a:chExt cx="1098720" cy="406440"/>
          </a:xfrm>
        </p:grpSpPr>
        <p:sp>
          <p:nvSpPr>
            <p:cNvPr id="164" name=""/>
            <p:cNvSpPr txBox="1"/>
            <p:nvPr/>
          </p:nvSpPr>
          <p:spPr>
            <a:xfrm>
              <a:off x="6410160" y="2868480"/>
              <a:ext cx="641520" cy="406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51dc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TC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5952960" y="2868480"/>
              <a:ext cx="453960" cy="406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51dc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038560" y="3400560"/>
            <a:ext cx="2013120" cy="406440"/>
            <a:chOff x="5038560" y="3400560"/>
            <a:chExt cx="2013120" cy="406440"/>
          </a:xfrm>
        </p:grpSpPr>
        <p:sp>
          <p:nvSpPr>
            <p:cNvPr id="167" name=""/>
            <p:cNvSpPr txBox="1"/>
            <p:nvPr/>
          </p:nvSpPr>
          <p:spPr>
            <a:xfrm>
              <a:off x="6410160" y="3400560"/>
              <a:ext cx="641520" cy="406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51dc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TC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5952960" y="3400560"/>
              <a:ext cx="453960" cy="406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51dc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5038560" y="3400560"/>
              <a:ext cx="938160" cy="406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51dc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038560" y="4314960"/>
            <a:ext cx="2013120" cy="406440"/>
            <a:chOff x="5038560" y="4314960"/>
            <a:chExt cx="2013120" cy="406440"/>
          </a:xfrm>
        </p:grpSpPr>
        <p:sp>
          <p:nvSpPr>
            <p:cNvPr id="171" name=""/>
            <p:cNvSpPr txBox="1"/>
            <p:nvPr/>
          </p:nvSpPr>
          <p:spPr>
            <a:xfrm>
              <a:off x="6410160" y="4314960"/>
              <a:ext cx="641520" cy="406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51dc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TC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5952960" y="4314960"/>
              <a:ext cx="453960" cy="406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51dc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5038560" y="4314960"/>
              <a:ext cx="938160" cy="406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51dc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952960" y="4848120"/>
            <a:ext cx="1098720" cy="406440"/>
            <a:chOff x="5952960" y="4848120"/>
            <a:chExt cx="1098720" cy="406440"/>
          </a:xfrm>
        </p:grpSpPr>
        <p:sp>
          <p:nvSpPr>
            <p:cNvPr id="175" name=""/>
            <p:cNvSpPr txBox="1"/>
            <p:nvPr/>
          </p:nvSpPr>
          <p:spPr>
            <a:xfrm>
              <a:off x="6410160" y="4848120"/>
              <a:ext cx="641520" cy="406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51dc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TC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5952960" y="4848120"/>
              <a:ext cx="453960" cy="406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51dc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74747"/>
                  </a:solidFill>
                  <a:latin typeface="Arial"/>
                  <a:ea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 txBox="1"/>
          <p:nvPr/>
        </p:nvSpPr>
        <p:spPr>
          <a:xfrm>
            <a:off x="6410160" y="5381640"/>
            <a:ext cx="641520" cy="406440"/>
          </a:xfrm>
          <a:prstGeom prst="rect">
            <a:avLst/>
          </a:prstGeom>
          <a:solidFill>
            <a:srgbClr val="ffffff"/>
          </a:solidFill>
          <a:ln w="38160">
            <a:solidFill>
              <a:srgbClr val="51dc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T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4038480"/>
            <a:ext cx="44197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22096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772400" y="27432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32767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38098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772400" y="40384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2400" y="52578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72400" y="57913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708440" y="3832200"/>
            <a:ext cx="1517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hysical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32480" y="1928880"/>
            <a:ext cx="1262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nding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32480" y="5813280"/>
            <a:ext cx="139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ceiving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Arial"/>
                <a:ea typeface="Arial"/>
              </a:rPr>
              <a:t>The TCP/IP Protocol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674720" y="4141800"/>
            <a:ext cx="5926320" cy="668520"/>
            <a:chOff x="1674720" y="4141800"/>
            <a:chExt cx="5926320" cy="668520"/>
          </a:xfrm>
        </p:grpSpPr>
        <p:sp>
          <p:nvSpPr>
            <p:cNvPr id="194" name=""/>
            <p:cNvSpPr txBox="1"/>
            <p:nvPr/>
          </p:nvSpPr>
          <p:spPr>
            <a:xfrm>
              <a:off x="1879560" y="4327560"/>
              <a:ext cx="5721480" cy="48276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Device 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1778040" y="4233960"/>
              <a:ext cx="5721480" cy="48276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Device 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1674720" y="4141800"/>
              <a:ext cx="5721480" cy="48276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Protoco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948120" y="5937120"/>
            <a:ext cx="457200" cy="31104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641600" y="2754360"/>
            <a:ext cx="2394000" cy="48276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103720" y="2754360"/>
            <a:ext cx="2394000" cy="48276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674720" y="3456000"/>
            <a:ext cx="5872320" cy="48276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IP (IC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674720" y="5091120"/>
            <a:ext cx="5926320" cy="669960"/>
            <a:chOff x="1674720" y="5091120"/>
            <a:chExt cx="5926320" cy="669960"/>
          </a:xfrm>
        </p:grpSpPr>
        <p:sp>
          <p:nvSpPr>
            <p:cNvPr id="202" name=""/>
            <p:cNvSpPr txBox="1"/>
            <p:nvPr/>
          </p:nvSpPr>
          <p:spPr>
            <a:xfrm>
              <a:off x="1879560" y="527832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Device 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1778040" y="518472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Device 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1674720" y="509112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Controll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838080" y="6093000"/>
            <a:ext cx="7315200" cy="2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02120" y="5881680"/>
            <a:ext cx="289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thernet or other physical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79960" y="5781600"/>
            <a:ext cx="0" cy="155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79960" y="4846680"/>
            <a:ext cx="0" cy="235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078440" y="3913200"/>
            <a:ext cx="0" cy="2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7920" y="32130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94600" y="32130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909800" y="2133720"/>
            <a:ext cx="54612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54240" y="2133720"/>
            <a:ext cx="70344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Tel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483080" y="2133720"/>
            <a:ext cx="56520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99200" y="2133720"/>
            <a:ext cx="56520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N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17600" y="2433600"/>
            <a:ext cx="0" cy="31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89400" y="2433600"/>
            <a:ext cx="0" cy="31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713120" y="2438280"/>
            <a:ext cx="11160" cy="100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2438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213600" y="2133720"/>
            <a:ext cx="106992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Trace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2438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Arial"/>
                <a:ea typeface="Arial"/>
              </a:rPr>
              <a:t>Network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48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ponsible for sending and receiving IP datagrams over lo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ponsible for mapping internet addresses  into physic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thernet/FDDI use Address Resolution Protocol (A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rnet address mapped is for the next hop the datagram will visit - might not be ultimate destination for the dat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480" y="68580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Arial"/>
                <a:ea typeface="Arial"/>
              </a:rPr>
              <a:t>The TCP/IP Protocol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74720" y="4141800"/>
            <a:ext cx="5926320" cy="668520"/>
            <a:chOff x="1674720" y="4141800"/>
            <a:chExt cx="5926320" cy="668520"/>
          </a:xfrm>
        </p:grpSpPr>
        <p:sp>
          <p:nvSpPr>
            <p:cNvPr id="230" name=""/>
            <p:cNvSpPr txBox="1"/>
            <p:nvPr/>
          </p:nvSpPr>
          <p:spPr>
            <a:xfrm>
              <a:off x="1879560" y="432756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Device 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1778040" y="423396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Device 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1674720" y="414180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Protoco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948120" y="5937120"/>
            <a:ext cx="457200" cy="31104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641600" y="2754360"/>
            <a:ext cx="2394000" cy="48276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103720" y="2754360"/>
            <a:ext cx="2394000" cy="48276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74720" y="3456000"/>
            <a:ext cx="5872320" cy="4827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IP (IC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674720" y="5091120"/>
            <a:ext cx="5926320" cy="669960"/>
            <a:chOff x="1674720" y="5091120"/>
            <a:chExt cx="5926320" cy="669960"/>
          </a:xfrm>
        </p:grpSpPr>
        <p:sp>
          <p:nvSpPr>
            <p:cNvPr id="238" name=""/>
            <p:cNvSpPr txBox="1"/>
            <p:nvPr/>
          </p:nvSpPr>
          <p:spPr>
            <a:xfrm>
              <a:off x="1879560" y="527832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Device 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1778040" y="518472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Device 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1674720" y="5091120"/>
              <a:ext cx="5721480" cy="48276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74747"/>
                  </a:solidFill>
                  <a:latin typeface="Arial"/>
                  <a:ea typeface="Arial"/>
                </a:rPr>
                <a:t>Network Controll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38080" y="6093000"/>
            <a:ext cx="7315200" cy="2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902120" y="5881680"/>
            <a:ext cx="289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thernet or other physical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179960" y="5781600"/>
            <a:ext cx="0" cy="155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79960" y="4846680"/>
            <a:ext cx="0" cy="235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078440" y="3913200"/>
            <a:ext cx="0" cy="2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47920" y="32130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94600" y="321300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909800" y="2133720"/>
            <a:ext cx="54612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54240" y="2133720"/>
            <a:ext cx="70344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Tel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483080" y="2133720"/>
            <a:ext cx="56520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299200" y="2133720"/>
            <a:ext cx="56520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N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17600" y="2433600"/>
            <a:ext cx="0" cy="31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89400" y="2433600"/>
            <a:ext cx="0" cy="31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713120" y="2438280"/>
            <a:ext cx="11160" cy="1082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2438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213600" y="2133720"/>
            <a:ext cx="1069920" cy="33012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Trace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2438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off Bryant</dc:creator>
  <dc:description/>
  <dc:language>en-US</dc:language>
  <cp:lastModifiedBy>Geoff Bryant</cp:lastModifiedBy>
  <cp:revision>0</cp:revision>
  <dc:subject/>
  <dc:title>TCP/IP Protocol Suite</dc:title>
</cp:coreProperties>
</file>